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25.wmf" ContentType="image/x-wmf"/>
  <Override PartName="/ppt/media/image14.png" ContentType="image/png"/>
  <Override PartName="/ppt/media/image21.png" ContentType="image/png"/>
  <Override PartName="/ppt/media/image19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60A0-D184-4ABA-A658-798DE38A0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заици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6E6A-DD39-4C7A-8658-F8F243EE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8A7-C45D-461A-B676-E96C7072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B20-7FF3-4779-8657-C5AE73CD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178-510D-4E7A-A24D-B9ADA184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632-D74A-4DE1-B7DC-1317C29C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0F71-414D-4EA3-84BC-CE7DB3E8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7710-2919-44CD-95DF-B4109483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4D2B-E5AC-4D4E-BB19-07F99E5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FD3F-F4F6-4329-9EBA-9CE69C5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7542-0B50-4C06-92F3-8E6EDA08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10F2-4503-4A18-B548-6646BE96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5E70-F5BC-49FD-AC08-B64D243A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EA6-A9BC-4D67-9DCB-CF9E51B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FBB6-14AC-4217-AAB0-430C139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058-3582-4B2D-AD6B-29F91961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DAF8-CE79-4408-A0E5-CC40FDC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2EB-5A5F-484E-A9CB-1EFED98C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183F-EB8F-4859-89B4-DED3DB95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FF6F-D268-49F3-8D4E-CD459749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3081-F71D-423F-9152-F9ACCEAA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ECCC-14FF-463B-AC46-633805ED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986FD-86AC-442B-A04A-40B4D537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5328-D0CE-4A18-AA5D-29FD1575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A19-5169-48F8-886F-F7752E9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A213-F2D0-4DE9-8E34-61C806F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E761-8FB6-4CC6-9BEA-1A2FD54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A50E-EC73-4754-9096-6673E927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98E2-101D-4409-9E73-FDE0D4A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E6EA-E152-487E-AD2B-FFDF4129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9EB8-B0EF-4085-B844-3957F26F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8A594-DC20-420C-B88D-8E85F131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C2B1-AA91-4204-B84D-0DF0C254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D25B-22DE-4B33-A018-9695DD9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FE81-B743-455F-9C15-6AE38E52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1C3-60C9-4C40-A7E2-5BE734C8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EF0DD-DD5A-4C4B-95D5-31FED150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14F5-591B-478E-A382-6EBF027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DD51-DC10-4F10-8976-94645272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5C1E-0113-4BCD-8A64-88D7928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9275-7C52-4678-903C-35BD0AB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2C317-3258-4E3C-ADCF-E94670D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6569A-9458-4229-9E93-63E4AEC4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A6F8-36B0-40A6-8808-1558C20F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8012F-A1E8-49F6-AA8A-CDFDDE16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CA96F-8CE9-422B-B6B6-14091D62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CFF-7411-4E61-9BA7-C1F3579C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6268-8944-449F-B003-8337551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28B3-4A38-436D-BF47-1DEDD768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70346-9061-4B35-8897-FF7800A2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A267-8659-4821-87AD-1A7A02A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A6E02-DAE7-44CA-A526-E4743E40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FC63-52D2-43F9-B12D-C83787A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6D2BA-917A-47B6-AFA3-FA576A2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42AC-6D6E-4B91-8942-56F55665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F209-8900-4428-B7E8-9F045C71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D76A-E8E2-4FB4-BFB1-4728E4A6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23B-AB97-4F31-98D8-7E8C64E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131A3-E0D9-426F-8D69-A8337B77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AE5F-8ACE-4BC1-BA10-38A2AABD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FD8A8-6AF1-4092-82A2-DACE55FC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5100-E363-43B6-A27D-BCF9018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2D1CF-0B0C-4802-9687-9B8DFA2D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E09F4-899C-458A-B34A-5DDB886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E91A-260D-4587-B4CE-095F14C1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1567-1633-486C-A53B-1FBB60F7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7CE9-D51B-4E1C-A11C-5AB3796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453B8-EFFB-48DB-AC16-A33012F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E8C-AE61-41F2-8D02-3ECF71D2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258EE-80A4-4C57-88D2-61B7C99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0B4D-7B5B-46F2-92E5-D85C1B0B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F624E-7B73-4DD0-80A3-8E17B489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1B3-7A6B-4A8C-8D9D-E0A08A6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0D8-8F35-41BD-8AD0-4CBFBA3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D505-B42C-41ED-9A0C-D135999376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B96A-2EED-4A76-BE63-02696F4D458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B657-3CF2-4B5C-8E16-F65C196DAB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37E3-66D3-4D3D-B7B4-92FA7DEC3AE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C717-E269-44E2-B3CC-DB683A92E2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4FD7-13F8-4B90-95BA-A4BF7D62DD7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xqFQoTCKCmwbT9m8cCFVIH2woddhECKw&amp;url=http://www.bio.utexas.edu/faculty/sjasper/bio212/mendel.html&amp;ei=mkTHVaDxJdKO7Ab2oojYAg&amp;psig=AFQjCNGC7MB1G5kLrPLCM4ghw3hUyzqXvg&amp;ust=1439208692932986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xqFQoTCKXVmNP7m8cCFU4o2wodk3sAvQ&amp;url=http%3A%2F%2Fwww.hadassah-med.com%2Fchildren-site%2Fparents%2Ftests-and-diagnosis%2Fprenatal-tests&amp;ei=wkLHVaXsBc7Q7AaT94HoCw&amp;bvm=bv.99804247,d.ZGU&amp;psig=AFQjCNGYgCydCkdo0ZGBYkChDGxsTvIYiA&amp;ust=1439208504787542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prenatalna 4"/>
          <p:cNvPicPr/>
          <p:nvPr/>
        </p:nvPicPr>
        <p:blipFill>
          <a:blip r:embed="rId1"/>
          <a:stretch/>
        </p:blipFill>
        <p:spPr>
          <a:xfrm>
            <a:off x="2895480" y="34290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812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Calibri"/>
              </a:rPr>
              <a:t>PRENATAL DIAGNOSTICS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PP-А   (pregnancy-associated plasma protein 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is created in the syncytiotrophoblast cells of the placen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aximum level is reached at the time of deliver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low level of this hormone during the first trimester indicates a chromosomal abnormality in the fet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DEFINITIVE DIAGNOSIS IS MADE THROUGH CHROMOSOME ANALY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1"/>
          <a:srcRect l="75912" t="63341" r="0" b="0"/>
          <a:stretch/>
        </p:blipFill>
        <p:spPr>
          <a:xfrm>
            <a:off x="6823080" y="301680"/>
            <a:ext cx="1828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vasive prenatal diagnostic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risk of spontaneous abortion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rion biopsies 1-2%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niocentesis 0.3-1%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docentesis 1%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tal injuries have not been seen to dat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IONIC VILLUS SAMPLING – CV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the 8th and 12th week of pregnancy (first trimester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thod is based on the fact that the trophoblast has identical genetic material to the fet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CVS PI - UpToDate"/>
          <p:cNvPicPr/>
          <p:nvPr/>
        </p:nvPicPr>
        <p:blipFill>
          <a:blip r:embed="rId1"/>
          <a:stretch/>
        </p:blipFill>
        <p:spPr>
          <a:xfrm>
            <a:off x="5029200" y="3657600"/>
            <a:ext cx="405936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"/>
          <p:cNvSpPr/>
          <p:nvPr/>
        </p:nvSpPr>
        <p:spPr>
          <a:xfrm>
            <a:off x="304920" y="3733920"/>
            <a:ext cx="4713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is 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6bdb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6bdb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ervical - rarely used due to increased risk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294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mosome analysis can be performed directly on the tissue of chorionic villi (finding metaphases) or after cultiv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mosomal aberrations, metabolic disorders and molecular defects are detec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6" descr="http://www.zo.utexas.edu/faculty/sjasper/images/14.17.gif">
            <a:hlinkClick r:id="rId1"/>
          </p:cNvPr>
          <p:cNvPicPr/>
          <p:nvPr/>
        </p:nvPicPr>
        <p:blipFill>
          <a:blip r:embed="rId2"/>
          <a:srcRect l="0" t="51985" r="0" b="8347"/>
          <a:stretch/>
        </p:blipFill>
        <p:spPr>
          <a:xfrm>
            <a:off x="662040" y="3809880"/>
            <a:ext cx="7924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the method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carried out during the first trimester of pregnanc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peed of obtaining results (in a maximum of 3 day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dvantages of the method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taining a sufficient number of metaphases for karyotype analy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bility to diagnose all aberrations (fra X and mosaicism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isk of causing spontaneous abortion when taking the sample, bleeding and infe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NIOCENTE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carried out in strictly indicated pregnanc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optimal time to perform is between the 16th and 18th week (second trimester of pregnancy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niotic fluid is punctured transabdominally under ultrasound contro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202124"/>
                </a:solidFill>
                <a:latin typeface="Arial"/>
                <a:ea typeface="Arial"/>
              </a:rPr>
              <a:t>Transabdominal puncture of amniotic flu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552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st 1-2 ml of puncture fluid is discarded, as it contains maternal cell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mniotic fluid is sent for the necessary analysi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ytogenetic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chemic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Picture 8" descr="http://www.hadassah-med.com/media/3156574/amniocente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209680"/>
            <a:ext cx="3353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http://carolguze.com/images/prenatal/amnio.gif"/>
          <p:cNvPicPr/>
          <p:nvPr/>
        </p:nvPicPr>
        <p:blipFill>
          <a:blip r:embed="rId1"/>
          <a:stretch/>
        </p:blipFill>
        <p:spPr>
          <a:xfrm>
            <a:off x="1143000" y="380880"/>
            <a:ext cx="6477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1285920"/>
            <a:ext cx="84582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case of a twin pregnancy, it is necessary to do a karyotype of both fetu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28600" y="1066320"/>
            <a:ext cx="8229600" cy="686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sadvantages of amniocentesi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uncture in the second trimester of pregnanc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onger-term cultivation of cells (2-3 week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ell cultivation is not always successful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ossibility of diagnosing all chromosomal aberrations (Fra 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alysis of X and Y chromati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niotic cells are NOT cultur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rect analysis of X (Barr's body) and Y chromatin is perform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method is important for mothers who are at risk of giving birth to male children with serious diseases linked to the X chromoso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Arial"/>
                <a:ea typeface="Arial"/>
              </a:rPr>
              <a:t>Genetic counsel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5520" y="1865160"/>
            <a:ext cx="8229600" cy="43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area of ​​human genetics is Genetic couns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tic counseling includ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ing an anamnesis and creating a genealogy tre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nical examination of individual family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ing an accurate diagnosis prognosis and possible forms of treat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risk for recurrence of hereditary disease/disorder in the fami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DOCENTES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of intrauterine puncturing of the sample of fetal blood from the umbilical cor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one between the 18th and 22nd week of pregnanc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i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eutic (therapy can be given to the fetu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ions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the fetal state at the end of a problematic pregnanc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osomal disorder not confirmed by amniocentesis or CV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aicism now being confirmed on fetal peripheral blood lymphocy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0600" y="2514240"/>
            <a:ext cx="403848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 X chromosome analysis - as the mitotic index of amniocytes is not suffici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deletion syndro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9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qu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240" y="20574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njection is performed on the mother's abdomen under local anesthes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 ultrasound control, the needle is guided to the umbilical cord of the fe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tal blood is punctured and cultured for 72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10" descr="JaypeeDigital | eBook Reader"/>
          <p:cNvPicPr/>
          <p:nvPr/>
        </p:nvPicPr>
        <p:blipFill>
          <a:blip r:embed="rId1"/>
          <a:stretch/>
        </p:blipFill>
        <p:spPr>
          <a:xfrm>
            <a:off x="4867200" y="2057400"/>
            <a:ext cx="38019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vention ris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emat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umbilical cord thrombo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fection and bleeding (which is not dangerous andusually stops in about 60 second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isk of fetal loss is about 1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-invasive prenatal test (NIPT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86840" y="18284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nalysis of fetal DNA from maternal peripheral blood (non-invasive method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Fetal DNA is present in the blood of a pregnant woman as early as 5 gestational week (GW), but a sufficient amount for the test is achieved at 10 GW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1"/>
          <a:stretch/>
        </p:blipFill>
        <p:spPr>
          <a:xfrm>
            <a:off x="4267080" y="1512720"/>
            <a:ext cx="47116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most often used in the detection of trisomies (21, 13, 18) and aneuploidy of sex chromosom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ase aneuploidy is detected, the result should be confirmed by an invasive diagnostic proced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7" descr="Non-Invasive Prenatal Test (NIPT) - Thumbay labs"/>
          <p:cNvPicPr/>
          <p:nvPr/>
        </p:nvPicPr>
        <p:blipFill>
          <a:blip r:embed="rId1"/>
          <a:stretch/>
        </p:blipFill>
        <p:spPr>
          <a:xfrm>
            <a:off x="1847880" y="3440160"/>
            <a:ext cx="54482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202124"/>
                </a:solidFill>
                <a:latin typeface="Arial"/>
                <a:ea typeface="Arial"/>
              </a:rPr>
              <a:t>PRE-IMPLANTATION DIAGNOSTIC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246816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involves diagnostics before the embryo is implanted in the endometrium of the uteru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is carried out on an embryo at the stage of 8 blastomeres, which is not yet directed towards the differentiation of a specific tiss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3840"/>
            <a:ext cx="457200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piration biops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most often used - the obtained cell is used for analysis of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gene m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well as molecular cytogenetics methods for analysis of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chromosomal aber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Picture 6" descr="http://lakecharlesobgyn.com/Images/infertility-49.jpg"/>
          <p:cNvPicPr/>
          <p:nvPr/>
        </p:nvPicPr>
        <p:blipFill>
          <a:blip r:embed="rId1"/>
          <a:stretch/>
        </p:blipFill>
        <p:spPr>
          <a:xfrm>
            <a:off x="4854600" y="1523880"/>
            <a:ext cx="4105080" cy="3743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http://www.ivfcenterhawaii.com/images/PGD_IVF.jpg"/>
          <p:cNvPicPr/>
          <p:nvPr/>
        </p:nvPicPr>
        <p:blipFill>
          <a:blip r:embed="rId2"/>
          <a:stretch/>
        </p:blipFill>
        <p:spPr>
          <a:xfrm>
            <a:off x="1012680" y="4668840"/>
            <a:ext cx="28670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agnosis of genopathi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246852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utated gene must be know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C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ctrophores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thern blo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pping of restriction si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454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6000" spc="-1" strike="noStrike">
                <a:solidFill>
                  <a:srgbClr val="04617b"/>
                </a:solidFill>
                <a:latin typeface="Calibri"/>
              </a:rPr>
              <a:t>METHODS OF MOLECULAR GENETIC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arents with a high risk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natal diagnos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natal diagnostics includ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ly detection of hereditary and intrauterine acquired fetal diseases caused primarily by changes in the genetic material (chromosomal aberrations and gene mutations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A ISOLATION </a:t>
            </a:r>
            <a:br>
              <a:rPr sz="2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can be isolated from any cell with a nucleus (lymphocytes, root hair, body fluids, urine, chorionic villi, amnionic fluid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lassic procedure for DNA isolation involves disruption of cell and nuclear membranes and release of DNA from protein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is stable and stored as an aqueous solution at +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or -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oli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(PCR)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, specific and highly sensitive metho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nables the selective multiplication of a specific segment of the DNA molecu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ased on the principles of DNA repli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gredients of the PCR mixture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q polymeras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 nucleoti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gnesium 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hases of the PCR reaction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26708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Denatu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DNA (breaking hydrogen bonds between strand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mer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hybrid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with DNA temp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imer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  <a:ea typeface="Arial"/>
              </a:rPr>
              <a:t>elong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(incorporation of nucleotides at the 3' end of the primer catalyzed by DNA polymeras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Picture 6" descr="pcrsteps"/>
          <p:cNvPicPr/>
          <p:nvPr/>
        </p:nvPicPr>
        <p:blipFill>
          <a:blip r:embed="rId1"/>
          <a:stretch/>
        </p:blipFill>
        <p:spPr>
          <a:xfrm>
            <a:off x="4191120" y="144792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IMATION OF PC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www.dnalc.org/view/15507-The-cycles-of-the-polymerase-chain-reaction-PCR-3D-animation-with-no-audio-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L ELECTROPHORESI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ion of DNA or RNA molecules is achieved in an electric field as they move through the gel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s move in proportion to their siz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A and RNA move towards the positive pole (anod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191120" cy="2789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5303880" y="4114800"/>
            <a:ext cx="3840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LOTT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 of bands from agarose gel to nylon membran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s of blotting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uthern blot - transfer of DNA frag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rthern blot - mRNA transf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stern blot - protein transf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dication for prenatal diagnosti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245700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's age (over 35 year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ther's age (over 40 year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ious child with chromosomal aberr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romosomal aberrations in the fami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ogenic disorders in the fami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ldren born with multiple anomal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ities of the fetus seen by ultrasound exam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or more spontaneous abortions of unknown ca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s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invasive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Ultras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regnancy-specific hormone levels in the mother's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0240" indent="-480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sis of fetal DNA in maternal peripheral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8320" y="25142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asiv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Biopsy of chorionic vill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mniocente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Cordocent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ltrasound examin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does not expose either the mother or the fetus to ri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outine screening procedure that detects fetal structural abnormalities (neural tube defects, heart defects, kidney, limb abnormalit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457200" y="4253040"/>
            <a:ext cx="2432160" cy="24318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845320" y="402444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gn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177840" y="38718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hal transluc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Polidactilia Dedos extras en manos o pies - Infogen"/>
          <p:cNvPicPr/>
          <p:nvPr/>
        </p:nvPicPr>
        <p:blipFill>
          <a:blip r:embed="rId2"/>
          <a:stretch/>
        </p:blipFill>
        <p:spPr>
          <a:xfrm>
            <a:off x="3352680" y="4724280"/>
            <a:ext cx="2670120" cy="1697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Predictive Factors for Perinatal Outcomes of Infants Diagnosed With  Micrognathia Antenatally"/>
          <p:cNvPicPr/>
          <p:nvPr/>
        </p:nvPicPr>
        <p:blipFill>
          <a:blip r:embed="rId3"/>
          <a:stretch/>
        </p:blipFill>
        <p:spPr>
          <a:xfrm>
            <a:off x="6486480" y="4683240"/>
            <a:ext cx="2309760" cy="17380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8"/>
          <p:cNvSpPr/>
          <p:nvPr/>
        </p:nvSpPr>
        <p:spPr>
          <a:xfrm>
            <a:off x="2994120" y="40338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dact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ternal serum screening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fetoprotei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FP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tal equivalent of albumin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in protein of fetal blood during the first trimes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reated by the yolk sac, and in the second trimester by the fetus's liv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reated during pregnancy, it is normally NOT detected in healthy peop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oded by a gene on chromosome 4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mother's blood, the level increases until the 32nd week of gestation, and then decr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04920" y="106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AFP values ​​are indicators of a chromosomal anomaly (trisomy 13, 18 or 21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levated AFP value may indicate an open neural tube, anencephaly, abdominal wall defect, intrauterine fetal bleeding, threatened miscarriage, multiple pregnancy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1905120" y="3429000"/>
            <a:ext cx="4686120" cy="3352680"/>
            <a:chOff x="1905120" y="3429000"/>
            <a:chExt cx="4686120" cy="3352680"/>
          </a:xfrm>
        </p:grpSpPr>
        <p:pic>
          <p:nvPicPr>
            <p:cNvPr id="307" name="Picture 4" descr=""/>
            <p:cNvPicPr/>
            <p:nvPr/>
          </p:nvPicPr>
          <p:blipFill>
            <a:blip r:embed="rId1"/>
            <a:srcRect l="1335" t="56152" r="51194" b="9260"/>
            <a:stretch/>
          </p:blipFill>
          <p:spPr>
            <a:xfrm>
              <a:off x="2320200" y="3429000"/>
              <a:ext cx="3739320" cy="15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" descr=""/>
            <p:cNvPicPr/>
            <p:nvPr/>
          </p:nvPicPr>
          <p:blipFill>
            <a:blip r:embed="rId2"/>
            <a:srcRect l="36357" t="24325" r="41504" b="49386"/>
            <a:stretch/>
          </p:blipFill>
          <p:spPr>
            <a:xfrm>
              <a:off x="4847400" y="5449320"/>
              <a:ext cx="1743840" cy="11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4" descr=""/>
            <p:cNvPicPr/>
            <p:nvPr/>
          </p:nvPicPr>
          <p:blipFill>
            <a:blip r:embed="rId3"/>
            <a:srcRect l="1335" t="17412" r="62869" b="49386"/>
            <a:stretch/>
          </p:blipFill>
          <p:spPr>
            <a:xfrm>
              <a:off x="1905120" y="5294520"/>
              <a:ext cx="2819520" cy="148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0492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HCG –human chorionic gonadotrop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produced by the placenta (placental syncytiotrophoblast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unit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G) is determine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ple increase in the value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G indicates a chromosomal anomaly (trisomy 13, 18 or 2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7" descr="Pregnancy test:- Part 1 - Normal Pregnancy, Beta-HCG, Human Chorionic  Gonadotropin (HCG), Ectopic Pregnancy - Labpedia.net"/>
          <p:cNvPicPr/>
          <p:nvPr/>
        </p:nvPicPr>
        <p:blipFill>
          <a:blip r:embed="rId1"/>
          <a:stretch/>
        </p:blipFill>
        <p:spPr>
          <a:xfrm>
            <a:off x="4438800" y="4173480"/>
            <a:ext cx="3297240" cy="2092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Pregnancy test:- Part 1 - Normal Pregnancy, Beta-HCG, Human Chorionic  Gonadotropin (HCG), Ectopic Pregnancy - Labpedia.net"/>
          <p:cNvPicPr/>
          <p:nvPr/>
        </p:nvPicPr>
        <p:blipFill>
          <a:blip r:embed="rId2"/>
          <a:stretch/>
        </p:blipFill>
        <p:spPr>
          <a:xfrm>
            <a:off x="1407960" y="4141800"/>
            <a:ext cx="22338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0:03:58Z</dcterms:created>
  <dc:creator>Olivera Djordjevic</dc:creator>
  <dc:description/>
  <dc:language>en-US</dc:language>
  <cp:lastModifiedBy>Microsoft Office User</cp:lastModifiedBy>
  <dcterms:modified xsi:type="dcterms:W3CDTF">2025-02-05T10:46:34Z</dcterms:modified>
  <cp:revision>110</cp:revision>
  <dc:subject/>
  <dc:title>11. Методе пренаталне дијагностике</dc:title>
</cp:coreProperties>
</file>